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28A-9851-4E37-8CDC-41510723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0CA-FC50-4860-8F84-96697BD7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E01-CF81-4E89-973A-B9F770E1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E75-B27E-4515-B200-CFE73918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418-CDCF-4C7C-97D6-38B3D55C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2CC-4401-4396-8602-2225BBB6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F4F-BBBC-48E3-B380-49D32740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FFB-F486-42D8-B77A-B19CBAF6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A1B-4392-43BA-B580-3FF585E5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5E5-4798-4FC4-8741-B820C893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EE2-A4DB-42F0-916A-A53BD295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756-7978-409D-9109-67C04D71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75B1-D651-49A6-8F7D-2AD566238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E AU FOST EI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e  literare  cu  contin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or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II  CLASEI  A II-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EZINTA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pa Vitejilor                         Grupa Voinic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mot  Teo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orean Cris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tieganu Andre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rgiu 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rgiu Da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mot I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ea A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ut Georg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46:12Z</dcterms:created>
  <dc:creator>ws11</dc:creator>
  <dc:description/>
  <dc:language>en-US</dc:language>
  <cp:lastModifiedBy>ws11</cp:lastModifiedBy>
  <dcterms:modified xsi:type="dcterms:W3CDTF">2009-12-10T16:51:52Z</dcterms:modified>
  <cp:revision>2</cp:revision>
  <dc:subject/>
  <dc:title>CINE AU FOST EI? </dc:title>
</cp:coreProperties>
</file>